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7EF5-79AD-4403-BC5D-7679890D3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now everyone should be familiar with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bitrary split. eg frame-based subsumed by OWL. relational subsumed by deductive dbs, logic based. RDF could be a semi-structured format. is SS meaningfu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later for ‘abstraction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ef: sqldb fine for MODs, not for O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ring in other issues later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O type example: deafness, hearing im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useful from a db programmer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in real life we want want to know what EI is part_of, and its details; eg a fly or fly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 entailment for 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constraints + OWA hindr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LSIG; BioRDF; Eric; Unipr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we are the NC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useful from a db programmer 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deal with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relational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e ways of representing phenos using generic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4B4-8D16-4219-83BE-EE853D9B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8F22-E181-4BC9-8648-0F40447F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D85C-E0A0-4C1A-A951-650606E9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A999-C42B-4D62-9A0C-FFBD70EE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2954-9A5F-4B41-A0A9-665EE456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2A8-61D3-4FA9-B373-5234C79B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D57D-B616-4A8E-8195-953F0EFC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F7B8-5EB8-4B76-9C52-40CD109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683-9137-46D6-9507-475AF264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908B-0230-463B-89C9-FA99A2D1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012-1AB1-4CB9-A6FF-90FF970A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37E-423B-4B2C-A304-42AEAF68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A093-A84D-4538-A50B-53558162F1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ruitfly.org/~cjm/obo-download" TargetMode="Externa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yuri.lbl.gov/amigo/obd" TargetMode="External"/><Relationship Id="rId2" Type="http://schemas.openxmlformats.org/officeDocument/2006/relationships/hyperlink" Target="http://yuri.lbl.gov/amigo/obd" TargetMode="External"/><Relationship Id="rId3" Type="http://schemas.openxmlformats.org/officeDocument/2006/relationships/hyperlink" Target="http://spade.lbl.gov:8080/sesame/actionFrameset.jsp?repository=mem-rdfs-db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: Bioinformatic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NCBO-Berkele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27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3 Driving Biological Projec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BP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s: Fly and Zebrafish to huma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960840" indent="-51732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591120" indent="-59112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re 2 Aim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pply ontologies to describ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 disease gen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330200" indent="-443160">
              <a:spcBef>
                <a:spcPts val="601"/>
              </a:spcBef>
              <a:buClr>
                <a:srgbClr val="ff8000"/>
              </a:buClr>
              <a:buFont typeface="Gill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concile annotation and ontology chang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pply ontologies to describe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quiremen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capture too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mo tomorrow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 tool requirements from UCSF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base (OBD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--aim 2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64704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833960" y="517680"/>
            <a:ext cx="74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38080" y="0"/>
            <a:ext cx="65296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757280" y="746280"/>
            <a:ext cx="91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’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 mode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mon/shared domain specific mode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3733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8862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im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disease ge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el must support th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ranular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mpa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omain specific data mode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B, ZF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type to 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AV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qualities inhere in entit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 to disea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re 2 will help define common mod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CSF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isting ontology-friendly schema - trialban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henotype data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inhere in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Gill Sans"/>
              </a:rPr>
              <a:t>Entity ter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; </a:t>
            </a:r>
            <a:r>
              <a:rPr b="0" i="1" lang="en-US" sz="2400" spc="-1" strike="noStrike">
                <a:solidFill>
                  <a:srgbClr val="ffff00"/>
                </a:solidFill>
                <a:latin typeface="Gill Sans"/>
              </a:rPr>
              <a:t>PATO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brain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FBbt:00005095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fus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gut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A:0000917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dys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4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tail fin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ventraliz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kidney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hypertrophied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ff00"/>
                </a:solidFill>
                <a:latin typeface="Gill Sans"/>
              </a:rPr>
              <a:t>midface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ZDB:020702-16</a:t>
            </a:r>
            <a:r>
              <a:rPr b="0" lang="en-US" sz="2000" spc="-1" strike="noStrike">
                <a:solidFill>
                  <a:srgbClr val="468a4b"/>
                </a:solidFill>
                <a:latin typeface="Gill Sans"/>
              </a:rPr>
              <a:t>;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Gill Sans"/>
              </a:rPr>
              <a:t>hypoplastic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PATO:000063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composed phenotype te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mmalian Phenotype 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reased activated B-cell number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1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ink fur hue” 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Gill Sans"/>
              </a:rPr>
              <a:t>MPO:000037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0" y="2286000"/>
            <a:ext cx="2057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3668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tensions to simple mode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1879560"/>
            <a:ext cx="7772400" cy="49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ab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attrib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ntative vs qualita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mposing entity and attribute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ve states/valu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Variation in place, space and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better treatment of abs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CSHL Pheno meeting 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so, more detailed formal presentation (avail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 to mention genotypes, environments, provenance, et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clinical tria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el already described using frame-based schem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urther modeling require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bstrac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integrate more with other OBD data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iew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only show parts relevant to OBD/BioPort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uture DBPs and use cas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will contain a variety of general types of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eling is expensiv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 existing models where appropria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hole must be cohesive and integrat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st of this talk focuses on the pheno DBPs for illustrative purpos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Berkeley </a:t>
            </a:r>
            <a:r>
              <a:rPr b="0" i="1" lang="en-US" sz="4400" spc="-1" strike="noStrike">
                <a:solidFill>
                  <a:srgbClr val="e3ebf1"/>
                </a:solidFill>
                <a:latin typeface="Gill Sans"/>
              </a:rPr>
              <a:t>Drosophila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Genome Projec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nish the sequence of the euchromatic genome of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Drosophila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melanogaste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ed biological important features of this sequ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duced gene disruptions using P element-mediated mutagenesi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ull length sequencing and expression characterization of a cDNA for every ge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ff00"/>
                </a:solidFill>
                <a:latin typeface="Gill Sans"/>
              </a:rPr>
              <a:t>Developing informatics too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framework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3352680"/>
            <a:ext cx="3886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ngu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data: underlying formalism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is expressed with modeling langu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/SQ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mi-structured, 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ject-centric (UML, frame-based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 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scription logic: e.g. 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irst-order logic: e.g. C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atural language descrip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 </a:t>
            </a:r>
            <a:r>
              <a:rPr b="0" i="1" lang="en-US" sz="2800" spc="-1" strike="noStrike">
                <a:solidFill>
                  <a:srgbClr val="80ff00"/>
                </a:solidFill>
                <a:latin typeface="Gill Sans"/>
              </a:rPr>
              <a:t>should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be independent of language it is expressed 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 exchange language: XM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mp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XML is suited for data exchan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XML can drive software spe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strains programmatic data mode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XSD can generate UM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osed world assumption is usefu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f Ruttenberg et a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ture techn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ell understood by developers, MO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tandar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ow OBD uses XM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-geno-pheno-xml (aka pheno-xml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ctually multiple modular compon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genotype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henotype schema: ‘EAV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nvironment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rovenance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d a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change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f: gene ontology association fi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need for ClinicalTrials-XM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pheno-xm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5080" y="1752480"/>
            <a:ext cx="8410320" cy="46065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genotype id="ZFIN:tm84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name&gt;ZFIN:tm84&lt;/na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genotype_phenotype_associa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phenoty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entity type="ZDB-ANAT-010921-528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quality </a:t>
            </a:r>
            <a:r>
              <a:rPr b="0" i="1" lang="en-US" sz="2000" spc="-1" strike="noStrike">
                <a:solidFill>
                  <a:srgbClr val="f0e500"/>
                </a:solidFill>
                <a:latin typeface="Courier New"/>
              </a:rPr>
              <a:t>type=“PATO:……”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state type="PATO:0000636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time_range type="ZDB-STAGE-010723-12"/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sta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qualit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entit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phenotyp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&lt;/genotype_phenotype_association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QL Databas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storage, management and query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l MODs use SQL db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Lots of advantag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calable, standard QL, mature, APIs, 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ure relational model is reasonably form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XML/SQL more or less compatib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ow impedance mismatc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chemas for geno-pheno d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54120"/>
            <a:ext cx="7772400" cy="55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already have schema: </a:t>
            </a:r>
            <a:r>
              <a:rPr b="0" lang="en-US" sz="2800" spc="-1" strike="noStrike">
                <a:solidFill>
                  <a:srgbClr val="ffff00"/>
                </a:solidFill>
                <a:latin typeface="Lucida Grande"/>
              </a:rPr>
              <a:t>Chad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d by many MODs (eg FB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 are ‘chado compliant’ (eg ZFI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mi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ylogen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 module needs updat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ll be driven by pheno-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blem solved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 have two mature, complementary technologies, and can define schemas for our model in an appropriate formalism for each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ill Sans"/>
              </a:rPr>
              <a:t>Is this enough to work with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ssu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will be much more than geno-phen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uture DBPs,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other NCB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y data expressed in an ontology langu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ftware and schema development expensiv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ragility in face of schema evolu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velopment gets bogged down in data exchange issu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ajor issu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QL and XPath work great for ‘traditional’ data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t are too low level for ontology-centric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ck of inferen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way to directly express ontology constrai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6931080" y="2370240"/>
            <a:ext cx="1582560" cy="2813400"/>
            <a:chOff x="6931080" y="2370240"/>
            <a:chExt cx="1582560" cy="281340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6931080" y="2370240"/>
              <a:ext cx="15825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7162200" y="4602240"/>
              <a:ext cx="1119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Sim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630360" y="2362320"/>
            <a:ext cx="1457280" cy="2813400"/>
            <a:chOff x="630360" y="2362320"/>
            <a:chExt cx="1457280" cy="2813400"/>
          </a:xfrm>
        </p:grpSpPr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630360" y="2362320"/>
              <a:ext cx="145728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779400" y="4594320"/>
              <a:ext cx="115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Chri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o is here from NCBO-Berkele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824360" y="2362320"/>
            <a:ext cx="1476360" cy="2813400"/>
            <a:chOff x="4824360" y="2362320"/>
            <a:chExt cx="1476360" cy="281340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4824360" y="2362320"/>
              <a:ext cx="1476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979880" y="4594320"/>
              <a:ext cx="116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Mark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717640" y="2362320"/>
            <a:ext cx="1476360" cy="2813400"/>
            <a:chOff x="2717640" y="2362320"/>
            <a:chExt cx="1476360" cy="2813400"/>
          </a:xfrm>
        </p:grpSpPr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717640" y="2362320"/>
              <a:ext cx="1476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3000240" y="4594320"/>
              <a:ext cx="90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80ff00"/>
                  </a:solidFill>
                  <a:latin typeface="Bradley Hand ITC TT-Bold"/>
                  <a:ea typeface="ＭＳ Ｐゴシック"/>
                </a:rPr>
                <a:t>Shu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Use cases from previous experience: AmiG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d all TF genes” (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closur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d all gene products localised to endoplasmic reticulum” (part_of closure, over is_a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ur solution (AmiGO &amp; go-sqldb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-compute transitive closure over </a:t>
            </a:r>
            <a:r>
              <a:rPr b="1" lang="en-US" sz="2400" spc="-1" strike="noStrike">
                <a:solidFill>
                  <a:srgbClr val="ffffff"/>
                </a:solidFill>
                <a:latin typeface="Gill Sans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relations in db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(sort of) works for GO (for now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efresh proble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plosive for tangled DAG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requires more ontological awar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 rel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genic (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eg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derives_from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ransitive_ov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 types of 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-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versu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post- composed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MPO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versu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AO+PAT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Entity+Spatial qualifi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eries over either should be interchangeab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1360" y="175680"/>
            <a:ext cx="880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lution: more expressive formalis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498680"/>
            <a:ext cx="77724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QLs and APIs should provide and abstract away common ontology oper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e of programming, optimis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hoic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mweb’ datab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DF + RDFS + Owl [ lite + DL ] + extr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ts to choose from, emerging standard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atible with Obo v1.2 spec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ductive databas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uperset of relational databa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rom Prolog to full C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eling phenotypes as RDF/OWL or Obo instanc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2286000"/>
            <a:ext cx="609588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117200" y="2092320"/>
            <a:ext cx="13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classes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06760" y="4851360"/>
            <a:ext cx="15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in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54520" y="586728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97680" y="586728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query in </a:t>
            </a:r>
            <a:r>
              <a:rPr b="1" lang="en-US" sz="4400" spc="-1" strike="noStrike">
                <a:solidFill>
                  <a:srgbClr val="e3ebf1"/>
                </a:solidFill>
                <a:latin typeface="Lucida Grande"/>
              </a:rPr>
              <a:t>SeRQ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321840" y="2438280"/>
            <a:ext cx="8227440" cy="252756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ECT DISTIN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EI, ET, OrgI, QI, QT, Q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{EI} rdf:type {ET} rdfs:label {EN}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EI} OBO_REL_part_of {OrgI} rdf:type {Tax} rdfs:label {TaxN}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EI} OBO_REL_has_quality {QI} rdf:type {QT} rdfs:label {QN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HE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EN) = "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wing vei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 A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TaxN) = ”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Arthropoda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 AN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label(QN) = "</a:t>
            </a:r>
            <a:r>
              <a:rPr b="0" lang="en-US" sz="1600" spc="-1" strike="noStrike">
                <a:solidFill>
                  <a:srgbClr val="ffff00"/>
                </a:solidFill>
                <a:latin typeface="Courier New"/>
              </a:rPr>
              <a:t>ShapeValu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"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7160" y="167652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nd mutations affecting the shape of the wing vei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3280" y="5486400"/>
            <a:ext cx="65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results of query on OBD-sesa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ne annotation to “wing vein L2”, “branch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dvantages of ‘SemWeb’ db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758600"/>
            <a:ext cx="7772400" cy="51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vantages over pure SQ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 ontolog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the mod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straints encoded in ontolog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.g. certain quality types only applicable to certain entity typ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gile development - fast database integr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ich modeling construc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ransitivity, subsumption, intersection, et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owerful QLs and APIs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re (technical) interoperation ‘for free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URI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roven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en World Assumption (maybe a hindrance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isadvantages of ‘SemWeb’ db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ay be slower than SQ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..but in-memory execution is fas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ack of matu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new technology.. but has a LOT of momentu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nd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re RDF triples appropriate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herent difficulties modeling tim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allows n-ary relations/predic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ybrid mode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460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mWeb dbs are commonly layered over SQL DB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e can have the best of both world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ata View lay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pping between Obo/OWL model and domain-specific relational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(optionally) materialized for spe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fferent applications use appropriate lay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5360" y="193680"/>
            <a:ext cx="6356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 progress: OBD-Sesa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sa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en source ‘triple store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ased on Jen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so used in Protégé-OW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orage layer op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ysql/postgresql generic schem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-memo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sk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8153280" cy="68104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76560" y="2132640"/>
            <a:ext cx="388620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Chri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76920" y="2895120"/>
            <a:ext cx="4038480" cy="342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adFly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hado database schem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erl libraries for all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4876920" y="6303960"/>
            <a:ext cx="4038480" cy="477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OBD data archit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in Sesame: current datase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ZFIN &amp; FB : EAV trial 2003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est ortholog s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FB ‘simple phenotype’ alle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ZFIN legacy phenotype data, automatically parsed to EAV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ies: AOs, PATO, Cell, G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tho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cel &amp; flatfiles-&gt;pheno-xml-&gt;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WL from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www.fruitfly.org/~cjm/obo-downloa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rialban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ethod: ocelot-&gt;obo-xml-&gt;ow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uman orthologs and omi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echnology Evaluation: Sesa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 case query se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enchmark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liminary conclus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layering is terri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-memory is fas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timisa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 triple store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p to date results on wiki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-194040">
              <a:lnSpc>
                <a:spcPct val="90000"/>
              </a:lnSpc>
              <a:spcBef>
                <a:spcPts val="24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Grande"/>
              </a:rPr>
              <a:t>http://smi.stanford.edu/projects/cbio/mwiki-internal/index.php/RDF_Sesame_Demo_Benchmark</a:t>
            </a:r>
            <a:endParaRPr b="0" lang="en-US" sz="10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eed to test OWL-DL entail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gger dataset required for full evalu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munity effort: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ub-semweb-lifesci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li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97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rallel development: an OBD Prototyp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itiated prior to OBD-Sesam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mple deductive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log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hado-like schem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an be views on Obo/OWL predicat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migo-clone user interfac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apid prototyp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urrent datase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s obd-sesame, plus C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rivial to drop in mo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logic quer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4" name=""/>
          <p:cNvSpPr/>
          <p:nvPr/>
        </p:nvSpPr>
        <p:spPr>
          <a:xfrm>
            <a:off x="505800" y="2735280"/>
            <a:ext cx="4935600" cy="22885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heres(QI,EI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st(QI,QT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abel(QT,shape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inst(EI,ETP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art_of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(ETP,ET)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label(ET,’head capsul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1080" y="1828800"/>
            <a:ext cx="703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find mutations affecting the shape of some p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f the head caps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1440" y="5113440"/>
            <a:ext cx="74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results of query on OBD-prolo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one annotation to “arista lateral”, “irregular shap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TOD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-xm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alise release ver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alise Obo/OWL mapp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ogic specific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rth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- BioPortal integr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will it work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ersioning and reconciling chan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cide on ontology versioning fir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dependenc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develop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MLS into OBO-si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MA accessibility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cies-centric AO alignments (XSPAN?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pt meeting on AO develop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v meeting on disease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pheno anno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MIM anno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oport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isc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LP for </a:t>
            </a:r>
            <a:r>
              <a:rPr b="0" lang="en-US" sz="3200" spc="-1" strike="noStrike">
                <a:solidFill>
                  <a:srgbClr val="ffffff"/>
                </a:solidFill>
                <a:latin typeface="Lucida Grande"/>
              </a:rPr>
              <a:t>phenot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rial on evolutionary phenotype charact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mbridge NLP proje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n be used to ‘prime’ pheno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Decomposing MP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ink fu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Gill Sans"/>
              </a:rPr>
              <a:t>def=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fur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has_qualit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pink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iscuss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ll SemWeb dbs work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peri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y-based modeling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ontology is the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mportance of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s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pper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emo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ttp://yuri.lbl.gov/amigo/c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1"/>
              </a:rPr>
              <a:t>http://yuri.lbl.gov/amigo/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2"/>
              </a:rPr>
              <a:t>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  <a:hlinkClick r:id="rId3"/>
              </a:rPr>
              <a:t>http://spade.lbl.gov:8080/sesame/actionFrameset.jsp?repository=mem-rdfs-db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32520" cy="64404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08000" y="2103480"/>
            <a:ext cx="7239240" cy="4761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63360"/>
            <a:ext cx="77724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Shu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43040" y="837720"/>
            <a:ext cx="4800600" cy="1462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miGO,ImaGO &amp; databas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ute Pipelin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1828800"/>
            <a:ext cx="3733920" cy="47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OBD dev &amp; Data fl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Mark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1640" y="12949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ollo Genome Annotation Edito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52280" y="3505320"/>
            <a:ext cx="2055960" cy="266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438280" y="3505320"/>
            <a:ext cx="2003400" cy="26668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648320" y="3505320"/>
            <a:ext cx="2052360" cy="26668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934320" y="3505320"/>
            <a:ext cx="2030400" cy="2666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0" y="2284920"/>
            <a:ext cx="4038480" cy="86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Phenote and other OBD interfa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09520" y="800280"/>
            <a:ext cx="4251240" cy="54417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8000"/>
                </a:solidFill>
                <a:latin typeface="Bradley Hand ITC TT-Bold"/>
              </a:rPr>
              <a:t>Si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7960" y="16970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h region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 of entire Drosophila Genom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ject manager and coordinator nonpareil   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334120"/>
            <a:ext cx="3809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Gill Sans"/>
              </a:rPr>
              <a:t>Associate Dire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re 2 aims, refresh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ta models for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trial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th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eling framework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change forma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syste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QL based vs ‘SemWeb’ db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gre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m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re 2 Specific Aim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pply ontolog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ftware toolkit for describing and classifying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pture, manage, and view data annot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base (OBD) and interfaces to store and view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vestigate and compare implica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Linking human diseases to model syste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850320" indent="-425160">
              <a:lnSpc>
                <a:spcPct val="90000"/>
              </a:lnSpc>
              <a:spcBef>
                <a:spcPts val="601"/>
              </a:spcBef>
              <a:buClr>
                <a:srgbClr val="80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dcterms:modified xsi:type="dcterms:W3CDTF">2006-03-03T20:01:16Z</dcterms:modified>
  <cp:revision>565</cp:revision>
  <dc:subject/>
  <dc:title>NCBIO-Berkeley</dc:title>
</cp:coreProperties>
</file>